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2D07-3076-4ED3-917B-199F6DE20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D113-0673-4EE1-B7AD-0C75D8A2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A739-E8D4-4878-804A-7045591F5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1CD8-6E38-46FF-BA27-8065605D4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4347-A880-4E11-BD01-779BBD89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F69D-59E8-4980-B07B-B89C3E36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EFD4-76C0-43DC-A6E1-C5DBAB5C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EA52-3411-4F43-B9E9-AFBC1EFB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41EC-299F-4EF8-8EC2-C6F6BA2A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5BA4-A790-4B86-8876-7BE3C630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3E4D-0789-4976-8988-A56A7755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1A3F-FBA1-4C23-9157-045C9EE6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2365-6035-4C9C-AD77-EDBF8E427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200" spc="-1" strike="noStrike">
                <a:solidFill>
                  <a:srgbClr val="000000"/>
                </a:solidFill>
                <a:latin typeface="Arial"/>
              </a:rPr>
              <a:t>interjec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863640" cy="717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295280" cy="971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3141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1557360"/>
            <a:ext cx="828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8000" y="242712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Look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4221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ound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4797360"/>
            <a:ext cx="835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6021360"/>
            <a:ext cx="16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Feel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39640" y="4870440"/>
            <a:ext cx="808200" cy="819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1116000" y="5157720"/>
            <a:ext cx="792000" cy="635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00360" y="3357720"/>
            <a:ext cx="597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NZ" sz="6600" spc="-1" strike="noStrike">
                <a:solidFill>
                  <a:srgbClr val="008000"/>
                </a:solidFill>
                <a:latin typeface="Arial"/>
              </a:rPr>
              <a:t>inter</a:t>
            </a:r>
            <a:r>
              <a:rPr b="0" lang="en-NZ" sz="5400" spc="-1" strike="noStrike">
                <a:solidFill>
                  <a:srgbClr val="000000"/>
                </a:solidFill>
                <a:latin typeface="Arial"/>
              </a:rPr>
              <a:t>ruption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79640" y="4869000"/>
            <a:ext cx="71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Feels rude, like a warning, like excitemen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00360" y="1700280"/>
            <a:ext cx="1871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e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No 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7164360" y="549360"/>
            <a:ext cx="865080" cy="2462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788000" y="1628640"/>
            <a:ext cx="201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Y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7:55:22Z</dcterms:created>
  <dc:creator>Ministry of Education</dc:creator>
  <dc:description/>
  <dc:language>en-US</dc:language>
  <cp:lastModifiedBy>Sue</cp:lastModifiedBy>
  <dcterms:modified xsi:type="dcterms:W3CDTF">2007-04-21T11:43:20Z</dcterms:modified>
  <cp:revision>29</cp:revision>
  <dc:subject/>
  <dc:title>Simile</dc:title>
</cp:coreProperties>
</file>